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FD98-9A22-4FED-95B3-B0BE18FB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D14-C58A-4BB9-A599-6CCD8E76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F91C-354A-4BD9-8978-CA07AEC8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8866-458D-4281-8A49-2A482F9F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858-5487-469C-931F-F3A60D25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579F-7ACB-4C54-8DE1-3345EDE9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9A2E-2138-4C58-906D-E6171148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36FD-D8F3-487F-BFFC-123B2C40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2AA1-188A-4832-A78F-57305151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0C83-8779-4552-BEF1-3504A181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9CF6-CE77-4268-9BFE-01CDA57E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388A-8804-4022-8105-C60E46FD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CFC1-886D-47BF-995F-4CA196AC4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34920" y="367200"/>
            <a:ext cx="9213480" cy="61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Живота Си за теб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Аз дадох, твоя Спас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от смърт да те спася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пролях кръвта Си Аз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Умрях на кръст ти да си жив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и в вечността щастлив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До смърт за тебе Съм страдал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За Мен ти що си да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3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896760" y="700920"/>
            <a:ext cx="7683480" cy="545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Оставих светъл дом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оставих слава там;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във земна тъмнин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дойдох - теб светлина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Престол оставих за беди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и ангелски среди;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и нещо - помисли - дали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за Мен оставил с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710640" y="700920"/>
            <a:ext cx="7308360" cy="545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За тебе Аз страдах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в пот кървав се облях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от тежка скръб обзет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на кръст Аз бях разпет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Езикът ти, о, грешниче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не мож го изрече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Сега добре си помисли -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за Мен страдал ли с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00:40:38Z</dcterms:created>
  <dc:creator>TrifonTrifonow</dc:creator>
  <dc:description/>
  <dc:language>en-US</dc:language>
  <cp:lastModifiedBy>TrifonTrifonow</cp:lastModifiedBy>
  <dcterms:modified xsi:type="dcterms:W3CDTF">2005-11-22T07:32:36Z</dcterms:modified>
  <cp:revision>4</cp:revision>
  <dc:subject/>
  <dc:title>Slide 1</dc:title>
</cp:coreProperties>
</file>